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B48-8666-4035-9B32-DAB718F0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F96-0816-4FB9-AB19-3AA9CA6F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6EE-03A6-479A-96B4-965D8D21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A37-95BD-47E7-AF3C-AB78182A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92E-D40B-4160-8D6D-90096084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7A9-FC73-40CC-861E-12DE9280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5AA-8E6F-424B-B1EA-39267A90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943-ECF0-4DF8-AA8B-C40F4D54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095-ECAA-493D-BCA8-BB61893A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51C-F00D-4515-9639-0DAA32C1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2EA-8C55-4C8B-B9B9-59897ED0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18D-5B0C-4700-A23D-06715AE2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F7DD-0519-496B-8C07-7B8DDCD9F1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END  ASSOC                   WEST  END  ASSOC.         EDINBURGH  EX  PRESIDENTS        EX  PRESIDENTS              EX  PRESIDENTS  75TH            EDINBURGH  SECRETA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0" descr="West End Assoc 2.JPG"/>
          <p:cNvPicPr/>
          <p:nvPr/>
        </p:nvPicPr>
        <p:blipFill>
          <a:blip r:embed="rId1"/>
          <a:stretch/>
        </p:blipFill>
        <p:spPr>
          <a:xfrm>
            <a:off x="1857240" y="260280"/>
            <a:ext cx="1133640" cy="1244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1" descr="Edinburgh Ex Presidents.JPG"/>
          <p:cNvPicPr/>
          <p:nvPr/>
        </p:nvPicPr>
        <p:blipFill>
          <a:blip r:embed="rId2"/>
          <a:stretch/>
        </p:blipFill>
        <p:spPr>
          <a:xfrm>
            <a:off x="3297240" y="189000"/>
            <a:ext cx="128124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2" descr="Edinburgh Secretaries.JPG"/>
          <p:cNvPicPr/>
          <p:nvPr/>
        </p:nvPicPr>
        <p:blipFill>
          <a:blip r:embed="rId3"/>
          <a:stretch/>
        </p:blipFill>
        <p:spPr>
          <a:xfrm>
            <a:off x="7905600" y="189000"/>
            <a:ext cx="1024200" cy="128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Edinburgh Ex Pres. 75th.jpg"/>
          <p:cNvPicPr/>
          <p:nvPr/>
        </p:nvPicPr>
        <p:blipFill>
          <a:blip r:embed="rId4"/>
          <a:stretch/>
        </p:blipFill>
        <p:spPr>
          <a:xfrm>
            <a:off x="6105600" y="333360"/>
            <a:ext cx="1211040" cy="115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4" descr="Edinburgh Secretaries Millennium.JPG"/>
          <p:cNvPicPr/>
          <p:nvPr/>
        </p:nvPicPr>
        <p:blipFill>
          <a:blip r:embed="rId5"/>
          <a:stretch/>
        </p:blipFill>
        <p:spPr>
          <a:xfrm>
            <a:off x="200160" y="1916280"/>
            <a:ext cx="10602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Edinburgh Ex Pres. 2.jpg"/>
          <p:cNvPicPr/>
          <p:nvPr/>
        </p:nvPicPr>
        <p:blipFill>
          <a:blip r:embed="rId6"/>
          <a:stretch/>
        </p:blipFill>
        <p:spPr>
          <a:xfrm>
            <a:off x="4737240" y="333360"/>
            <a:ext cx="118080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West End  Assoc1.JPG"/>
          <p:cNvPicPr/>
          <p:nvPr/>
        </p:nvPicPr>
        <p:blipFill>
          <a:blip r:embed="rId7"/>
          <a:stretch/>
        </p:blipFill>
        <p:spPr>
          <a:xfrm>
            <a:off x="272880" y="333360"/>
            <a:ext cx="1170000" cy="1170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RETARIES  MILLENN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1:08:44Z</dcterms:created>
  <dc:creator>HP authorized customer</dc:creator>
  <dc:description/>
  <dc:language>en-US</dc:language>
  <cp:lastModifiedBy>John</cp:lastModifiedBy>
  <dcterms:modified xsi:type="dcterms:W3CDTF">2011-12-22T11:25:56Z</dcterms:modified>
  <cp:revision>26</cp:revision>
  <dc:subject/>
  <dc:title>Slide 1</dc:title>
</cp:coreProperties>
</file>